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8F72D-03EB-4536-A0E9-2FC41CBBC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. Social Penetration Theory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ocuses on changes in personal self-disclosure. Couples start talking about superficial/impersonal topics then gradually disclose more personal and intimate details as  the uncertainty of the relationship is reduced to a comfort lev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. Social Exchange Theory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An economic model in which individuals are motivated to maximize personal gains and minimize losses in a relationship. Development is based on rewards, costs, expectations, alternatives, and personal investment in a relationshi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. Attraction Based Theories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Based on initial personal attraction to opposite sex in close proximity.  Similar physical attractiveness that is complementary as well as other similar personal characteristics is the basis of relationship developm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. Stage Theories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Relationships develop as the result of evolving through a specific set of stages in a particular order.  Each stage must be successful and must be mutually rewarding in order to move on to the next stage: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DC18-1B49-4920-9B04-464201718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A95E-CC5C-41DA-BC0B-671D4066B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88E5-B13F-4F0B-8E78-9E38A602B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2078-5D77-44EC-A034-B48AA9DE1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EE543-1EEC-4A83-9018-B1646130D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D8242-024F-4F0E-9BB0-4C5711B7C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A1192-017E-4FA6-8F56-B2ECB7D8B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B0BDD-A652-4500-8F6E-38CBD59AF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6AE32-BF4B-44BC-8A98-EEC5F9C8C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2C051-8157-409D-9448-0E0110B02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3836C-B6DA-4D79-BAEE-7D6B6D84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6EEE-9B5E-4A07-AAE7-E4CC8F553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381D6-B3E4-46A6-A26E-03435838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1E662-92A9-44DB-9186-1F67188B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36E5C-C093-4226-BD4D-499159705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E1C08-752E-4DD3-9B68-5CB39B9DA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1A8EE-2228-44CF-B64A-621CEEFFB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32CE-D440-46F4-9D50-63F4A9978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D383-6902-4B5E-BFB2-DA1452306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F5A0-AA71-472F-A200-5AA4A3F67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01EA-0464-49DD-8B77-B67232DE3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C37B-9587-4BA2-8491-9FD82844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FC09-AB0B-49AE-9625-4EAE8D92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F5CE-8400-4FB1-B9E9-5CF7898F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C16EC-F97B-4FB8-951D-68CEAAD37B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5660B-C24E-4328-9349-10401B75B4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52280" y="0"/>
            <a:ext cx="8839440" cy="59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Romantic Relationships: Development Theo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. Social Penetration Theory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Focuses on changes in personal self-disclosure. Couples start talking about superficial/impersonal topics then gradually disclose more personal and intimate details as  the uncertainty of the relationship is reduced to a comfort leve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. Social Exchange Theory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An economic model in which individuals are motivated to maximize personal gains and minimize losses in a relationship. Development is based on rewards, costs, expectations, alternatives, and personal investment in a relationshi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3. Attraction Based Theories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Based on initial personal attraction to opposite sex in close proximity.  Similar physical attractiveness that is complementary as well as other similar personal characteristics is the basis of relationship developmen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4. Stage Theories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Relationships develop as the result of evolving through a specific set of stages in a particular order.  Each stage must be successful and must be mutually rewarding in order to move on to the next stage: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5T00:16:14Z</dcterms:created>
  <dc:creator>Martel</dc:creator>
  <dc:description/>
  <dc:language>en-US</dc:language>
  <cp:lastModifiedBy>Richard Martel</cp:lastModifiedBy>
  <dcterms:modified xsi:type="dcterms:W3CDTF">2004-04-05T11:39:15Z</dcterms:modified>
  <cp:revision>5</cp:revision>
  <dc:subject/>
  <dc:title>No Slide Title</dc:title>
</cp:coreProperties>
</file>